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923-400A-4328-ABF1-F775B94B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BB4-7EAF-463B-8C43-532E7FD7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2456-38DA-43B1-BA5E-30F65985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20A91-4EBD-4AB4-BD67-23322CA4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A19DE-D65E-4CAC-BD4A-AA6AF6F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52CA7-7840-4434-A44C-18CD645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EEEA1-8913-4A73-9AAA-8EA1703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A9D2-2762-4B8D-83BC-ED9396C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669C-C327-4CB2-BA90-8E034F4D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C066-F153-4E36-8CA0-C453C8D8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BFFFF-1937-48D6-84E0-B0F86FE6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045A5-EBFE-41AC-AF00-064A5BD7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961-45CC-4D0F-93EE-8DBFF5D7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D2008-7469-4006-86A6-A92FEC8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80632-324C-491A-8556-2E64A24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B62A6-7C7F-4767-BD09-38F0B5C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FD08A-093B-4B63-96BD-F5D13E3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290E-0F46-449B-8FF7-F61537A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FE93B-6071-4A70-A168-64FD135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AF4A3-8C3C-459F-8B82-0CDEEB67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8E20B-B166-49E8-A849-3A3507F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5BC7-B8D5-44FC-8BCF-6189A08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5803A-39F1-447A-819B-8427F559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5D7-19D1-48F2-9447-2CD2F657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DC9B8-B16F-44EA-90FC-5D61396D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C3B4-09AB-4810-8C4C-AB14053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3B37-42FA-4B36-AB66-CD317BBA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05C-7945-4803-8806-E6E5A87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DA7F-09FE-475B-A31C-981B753C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5FBD-F3E6-49C3-AD35-01E09558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4773-6E0C-4182-9E18-E366A0E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9E4-0DAD-40A1-A08D-03FE31A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360-299F-4330-896D-CA0F1DA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1587-4552-47FF-AECB-F177F1D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1CA-5360-4C52-B0D1-2DF5CACA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E63E-0428-4288-B24F-C2AA96D2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8E9B-D853-4B23-B248-16947C71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CC6-2798-488F-ABA6-EB438143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BA4B-3389-467C-9522-C03B2E89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A753-1811-46BC-BDC9-55428BE8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FA06-6254-4059-B3E4-1DC2133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AA72-16F5-436C-9D97-62267B7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75AB-824D-4FCF-8682-6F409EED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241-3C75-46CA-B536-4131892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292F-1C5B-4DAA-897B-890163F4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9EF3-058F-4625-BADC-486AD99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3188-3331-4B41-A297-7E2F7B29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49E7-CBBC-4E26-9065-40155AA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D266-102A-49AF-8703-81BE5949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7F1E-7470-49F6-99B1-161E88E7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DD8C-AA6E-4A6E-975F-D8782AD8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49009-04ED-4DCE-A54F-0DF6DE62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5DF25-5B20-4B2E-BAA4-A396C1E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825E0-B448-46C8-9173-64C87758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D3B-D0D2-40CE-B09B-CD2F3CCF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5AEF5-B1AF-426A-8212-85D6578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A667D-0101-4F35-8920-74B4ABC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D45C8-B5EF-4809-BE34-A53E2FC6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777F5-1BFE-4F27-A112-3072BF3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A3BAC-8C78-441C-AAC7-FA02251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E5462-05CB-4A99-8F3C-3F5CB61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BD726-F8E8-40A2-B06E-17402F7A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AF45A-AEB2-43AB-B1D7-4727041C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4DB6B-D086-4944-A37E-EA6968DC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A5BC-B073-4869-9150-3810A1A1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943-495A-4DEE-83CB-0874D310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7C7E-E3CB-4AAC-A402-7756DB32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58F92-B495-44DA-8435-DC3BC062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004D-1A7D-4414-A901-495E1B1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F590-E427-43FC-824E-433927B3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54B6-4410-4A6B-8006-8B0B37D4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88CB3-B31B-4D8B-99AB-8210686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C821-C802-489C-BB72-E5D334C7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C470-5E73-4A1F-912C-9FD68AD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C01B-2901-4E85-A553-77B8925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33B2-42EA-4C74-B179-0F88CC39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6D3-1C2A-4DBA-A664-C119C64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254EB-94DA-4C52-A7D2-85F738E3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0C2B3-54D8-486E-921A-69ED94A0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59085-8217-4019-BECC-85C149CB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632DE-D621-40F1-B63F-93B7E4F5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73A4D-55D1-4839-BA48-D4D091C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06C51-BC6A-4377-BB2D-37401B1D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C0572-D3D2-44A2-A141-9CFD5CD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CAF96-CDBB-4323-B99A-79A39BA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F0E0C-DD0E-41C3-B8A9-4EDF4D1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95FC8-4E0F-470F-AA3F-B40A239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15A-12AE-4170-BB81-7B5D8B41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544AC-80A0-44FC-9CFE-F120A60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32693-A566-46AF-914D-EA7C8552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653F3-9790-41D2-887B-7A944AC2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D4758-51C6-4A82-B1B2-B968FC8D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48E0-1F2F-4FB6-A581-95992CF3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AA3A-AFE8-4F6C-A62E-5748D17C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77A0B-4CCC-4412-92A7-3E92C435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193B-0E0D-4145-BC64-347BD372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6ADC-5F26-4391-AE0A-E5E2155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5B91-B07C-42D6-8CB0-56CB8282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379-5332-4F18-97AB-F9B7F30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D35F-D82A-4849-A3D0-F585ABC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F544-5930-4AEB-9B1D-CF8618E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4231-AD4A-4807-98F2-0C6FDE90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966C-093E-4EF2-AF45-D9D50FFF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CA9B4-C1EF-4103-9153-F2FF97D6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DD2D8-7EFF-4667-B735-D6AC75E6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02B87-92B8-4817-B068-4224E622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1773-6E4B-43A7-9E55-B90770D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65ED-DE8A-4DBD-B29F-C2F862AF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3FD12-81CA-4431-90C3-E98B1788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522-C70A-4131-B57A-80A01D9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C4EAB-1061-41AA-9541-1E59193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E1195-8AAB-49CD-8F53-034C3FE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3E30A-08D1-4080-A7A8-3A10D69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A80AC-AEC2-4330-A1A6-4D7F888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3521-EA64-47C5-B1C9-2EDDCA7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D22C2-309B-4206-8731-AA13B3FE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3E61-BD2F-4119-9FD7-C57132C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E960E-C419-4444-AE8C-86F9CBA8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2A762-8A91-4BBC-8072-F2773275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3203-A306-4BBE-B0F5-0EA529F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C5BA-2862-4873-8D66-CBE3B0B80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7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7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9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9180-80E1-4DAC-A146-27AA1F5F812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B208-6334-433E-B663-74DDD954A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7E32-F852-447E-9FFE-1BD1750A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1FF-BABE-4EEC-9D52-A12FB8069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583C-D015-4580-A33D-21CA4640C1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87F7-ADF4-4A13-A485-D5E18983C0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C98-660B-4D46-BB52-B129509CA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4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71B4-1842-47B4-81B4-82CD70FDB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9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9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0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0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9CC-E297-46DE-BA73-57EE4AD82DA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Va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tel Palacio del Marqués de San Felipe y Santiago de Beju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6" name="" descr="Suite"/>
          <p:cNvPicPr/>
          <p:nvPr/>
        </p:nvPicPr>
        <p:blipFill>
          <a:blip r:embed="rId2"/>
          <a:stretch/>
        </p:blipFill>
        <p:spPr>
          <a:xfrm>
            <a:off x="0" y="4952880"/>
            <a:ext cx="3352680" cy="19051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3276720" y="152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4"/>
          <a:stretch/>
        </p:blipFill>
        <p:spPr>
          <a:xfrm>
            <a:off x="6095880" y="495288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5"/>
          <a:stretch/>
        </p:blipFill>
        <p:spPr>
          <a:xfrm>
            <a:off x="3352680" y="4952880"/>
            <a:ext cx="2743200" cy="19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ridos Mama y Pap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a! El tiempo en Cuba es fantastico! Hace buen tiempo y hace sol y el sol es brilla. Hace calor. El mar esta muy caliente. Fui con mi ami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381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s Actividad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i practicar los deportes y fui practicar el surfing y nade y bucee. Mire muchos animales aquaticos. No fui practicar el esqui y no fui Museo Nacional de la mus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idas Especi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je la camara y la traje de bano y gafas de natacion y ropa. Compre una camiseta y un sombr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35816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anish Vacation 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Jonathan Cunningh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1:15:08Z</dcterms:created>
  <dc:creator>SteveCunningham</dc:creator>
  <dc:description/>
  <dc:language>en-US</dc:language>
  <cp:lastModifiedBy>SteveCunningham</cp:lastModifiedBy>
  <dcterms:modified xsi:type="dcterms:W3CDTF">2011-12-06T02:22:15Z</dcterms:modified>
  <cp:revision>2</cp:revision>
  <dc:subject/>
  <dc:title>Mi Vacation</dc:title>
</cp:coreProperties>
</file>